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B69-CC7C-4B5A-A257-1A7A2E39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4A8-EC64-4395-AFC8-39F10E5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323-C2BE-44EE-A898-33E87472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A76-CCBA-42C2-B46A-00AAD97E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9E5-8854-43D1-AAD5-08C5020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837D-CAB4-4CC1-A5EE-8D5B835A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781A-4105-4461-9A94-6742F32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641D-F583-45B3-8EF3-08BC10BC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2D4F-6F87-4FD1-9AF7-606E38A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29E7-0564-4E33-BF35-FFF1DE2A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9E2F-E418-4E75-9D59-8AF716C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3C4-2E29-4AD9-B56E-146D011E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C72E-379A-4834-B448-2B56FFB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EE0E-279C-4792-88DC-92E821C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9EBC-B6E9-4F51-893F-C010BC7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C6AC-0924-4C0B-90F7-DDA8494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0CEE-D040-4E59-A072-BACE15AC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D0B2E-BFBE-46A6-AEA1-1A039D33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2A371-A51F-428C-8BDB-012652B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4D983-008E-430E-B105-BB5BBE4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1C359-34A6-4929-BAAD-DAC529A7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305D2-0FB8-4409-BE8B-57269211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C99-BD7C-40F7-9873-BC9AE34B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47A50-F76C-40B8-9458-CFA2F8A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53398-B857-4E7D-B1D5-E14C78E5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B8B43-54A7-4A35-AC30-157A6D4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F277F-2901-4C16-B52F-AD4D665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0AB4B-FE1E-4DA8-B6DB-50E7BE89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241B8-0D42-47D3-944C-493FC523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95DDF-3083-4657-BF06-E16BE481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00B-073F-4317-8570-CFB7F92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5E8-1885-4C0D-8004-CD701E3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1C3-3953-45F1-91FD-9A539DB9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47D-5547-4EE5-952F-2745D00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939-718C-48EF-932D-C62DBC9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ACE-D9C6-4B6B-94CF-9F59361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B11-DB29-4818-B715-FC7C68A15F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0033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86C-FBDD-4FC6-9C16-AD27676DD6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003399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81C-E3A2-49AB-AA5E-6E2067AF45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2195640" y="404640"/>
            <a:ext cx="4800600" cy="12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72000"/>
                  </a:srgbClr>
                </a:solidFill>
                <a:latin typeface="Impact"/>
              </a:rPr>
              <a:t>ВОДА НА ЗЕМЛ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72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1116000" y="2852640"/>
            <a:ext cx="670572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КЕАНЫ   И  МОРЯ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kr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krevetka"/>
          <p:cNvPicPr/>
          <p:nvPr/>
        </p:nvPicPr>
        <p:blipFill>
          <a:blip r:embed="rId1"/>
          <a:srcRect l="11709" t="3536" r="11709" b="35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IMGP1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apteka1"/>
          <p:cNvPicPr/>
          <p:nvPr/>
        </p:nvPicPr>
        <p:blipFill>
          <a:blip r:embed="rId1"/>
          <a:stretch/>
        </p:blipFill>
        <p:spPr>
          <a:xfrm>
            <a:off x="468360" y="1557360"/>
            <a:ext cx="3267000" cy="323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46325_U46OfWxIB7"/>
          <p:cNvPicPr/>
          <p:nvPr/>
        </p:nvPicPr>
        <p:blipFill>
          <a:blip r:embed="rId2"/>
          <a:stretch/>
        </p:blipFill>
        <p:spPr>
          <a:xfrm>
            <a:off x="4859280" y="1557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ГО ЦВЕТА БОЛЬШЕ НА КАР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Изображение2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468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Изображение2 001"/>
          <p:cNvPicPr/>
          <p:nvPr/>
        </p:nvPicPr>
        <p:blipFill>
          <a:blip r:embed="rId2"/>
          <a:stretch/>
        </p:blipFill>
        <p:spPr>
          <a:xfrm>
            <a:off x="4643280" y="148428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40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ЕАНЫ- ОГРОМНЫЕ ПРОСТРАНСТВА 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Diagram 7"/>
          <p:cNvGrpSpPr/>
          <p:nvPr/>
        </p:nvGrpSpPr>
        <p:grpSpPr>
          <a:xfrm>
            <a:off x="3568680" y="3316320"/>
            <a:ext cx="1093680" cy="1093680"/>
            <a:chOff x="3568680" y="3316320"/>
            <a:chExt cx="1093680" cy="1093680"/>
          </a:xfrm>
        </p:grpSpPr>
        <p:sp>
          <p:nvSpPr>
            <p:cNvPr id="172" name="_s1028"/>
            <p:cNvSpPr/>
            <p:nvPr/>
          </p:nvSpPr>
          <p:spPr>
            <a:xfrm>
              <a:off x="3568680" y="331632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3" name="Object 27"/>
          <p:cNvGraphicFramePr/>
          <p:nvPr/>
        </p:nvGraphicFramePr>
        <p:xfrm>
          <a:off x="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34" descr="1621231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ОКЕАНА, ВДАЮЩУЮСЯ В СУШУ, НАЗЫВАЮТ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Р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океана, вдающуюся в сушу называют мор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FOTO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39640" y="2924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 которые неглубоко вдаются в сушу называют окраи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, далеко вдающиеся в сушу, называют внутрен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21 001"/>
          <p:cNvPicPr/>
          <p:nvPr/>
        </p:nvPicPr>
        <p:blipFill>
          <a:blip r:embed="rId1"/>
          <a:stretch/>
        </p:blipFill>
        <p:spPr>
          <a:xfrm>
            <a:off x="250920" y="587520"/>
            <a:ext cx="6481800" cy="3203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1042920" y="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водоё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ы на карте цифрами 1, 2,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2987640" y="3933720"/>
          <a:ext cx="7427880" cy="34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3933720"/>
                    <a:ext cx="74278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21 001"/>
          <p:cNvPicPr/>
          <p:nvPr/>
        </p:nvPicPr>
        <p:blipFill>
          <a:blip r:embed="rId1"/>
          <a:stretch/>
        </p:blipFill>
        <p:spPr>
          <a:xfrm>
            <a:off x="324000" y="404640"/>
            <a:ext cx="6659280" cy="3465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042920" y="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водоё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ы на карте цифрами 1, 2,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2987640" y="4005360"/>
          <a:ext cx="7364520" cy="343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005360"/>
                    <a:ext cx="7364520" cy="34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7:30:44Z</dcterms:created>
  <dc:creator>m16-r08</dc:creator>
  <dc:description/>
  <dc:language>en-US</dc:language>
  <cp:lastModifiedBy>USER</cp:lastModifiedBy>
  <dcterms:modified xsi:type="dcterms:W3CDTF">2015-06-21T08:28:35Z</dcterms:modified>
  <cp:revision>8</cp:revision>
  <dc:subject/>
  <dc:title>Слайд 1</dc:title>
</cp:coreProperties>
</file>