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46B-4964-41C0-BFA6-B38CD2C2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082-EEE8-40C2-8588-F97E49B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1CE-9877-4123-81CC-2DAF7A6A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B0E-BF84-4D7D-86FF-74749DF0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FBA-5AF0-4233-B19D-AE03D375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3C4-62B3-4177-A147-D896CC63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A9F-37D2-460B-894D-2A0ADA2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BCB-E53D-4D96-B519-E4A438F0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05D-308B-468E-B3CD-9A0852B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296-DCC3-4E6F-9011-E19EAA8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AED-A1E2-4354-991A-1116D4A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D77-2D63-47A0-9E0A-AA926E9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00"/>
            </a:gs>
            <a:gs pos="50000">
              <a:srgbClr val="336600"/>
            </a:gs>
            <a:gs pos="100000">
              <a:srgbClr val="18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132B-B138-42D5-A625-E4EF300A0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хопутные границы России на западе и юг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rcRect l="0" t="9844" r="0" b="9844"/>
          <a:stretch/>
        </p:blipFill>
        <p:spPr>
          <a:xfrm>
            <a:off x="0" y="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756360" y="83592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981440" y="475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50920" y="5877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Норв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4360" y="12675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9280" y="623664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о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70160" y="134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982880" y="587628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Ла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81080" y="177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909800" y="62366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Белорус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1080" y="2707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4069800" y="5876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 Укра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1800" y="3715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4069080" y="6236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 Гру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1440" y="4436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5653800" y="5876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 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1406160" y="43650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хст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4285440" y="544428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591240" y="4941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7453440" y="5589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5652720" y="623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Сев. Ко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836640"/>
          <a:ext cx="8229600" cy="5240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1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запа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юг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ве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ст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ору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го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в. Кор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5116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.138-139, знать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былёвой В. и Тостиеву Р.– стр.174-1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4:41:15Z</dcterms:created>
  <dc:creator>АНДРЕЙ</dc:creator>
  <dc:description/>
  <dc:language>en-US</dc:language>
  <cp:lastModifiedBy>USER</cp:lastModifiedBy>
  <dcterms:modified xsi:type="dcterms:W3CDTF">2015-06-21T08:26:26Z</dcterms:modified>
  <cp:revision>10</cp:revision>
  <dc:subject/>
  <dc:title>Сухопутные границы России на западе и юге.  </dc:title>
</cp:coreProperties>
</file>