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93A-9CDE-4E02-A485-6CE074E5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872-066D-4A2B-9F2A-825DE6E1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4C1-F14B-495D-8D75-711A141D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9BA-8A6D-4836-9836-E4CE1753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C704-F02E-4930-B2C8-C7E2748A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7B8A-98B1-48B0-B6BF-A99E0A4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CD52-1260-49AB-AF8B-624370E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D719-C4FE-41C4-A7DE-6A6250E5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6062-BFF6-4935-B209-18FA5F7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5933-FA9D-4757-9D97-08B891B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AB1-E284-4790-B07D-C12C985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A00-B95A-472B-9DD2-290BBBAF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D136-E536-44D1-9C98-3F9BA47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7F9-96E0-48D5-823E-68A98B0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584-1F71-4237-89C6-C59FB3E1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6958-5CA7-4D52-B638-AE2DC8D4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DD63-6C10-44B8-B89A-6C194195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026-1BFA-4ED6-8638-52EA4A8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EE7-D319-4E36-9642-8A4DFE85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03D-7252-4D72-8534-F93484B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478-CC77-4470-9CDB-EA64FCF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889-F280-49DE-9E2E-5CAE6DC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8DE-0AF1-4485-9154-E10AF54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C4F-69A5-45ED-A93E-E5C09AB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6E9-81D0-43F4-BEEA-300543FC0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D22A-6CCF-4E68-BA81-2013670913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2827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Класс Двудольны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Подзаголовок 4"/>
          <p:cNvSpPr/>
          <p:nvPr/>
        </p:nvSpPr>
        <p:spPr>
          <a:xfrm>
            <a:off x="1523880" y="2142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КС (К) ОУ «Специальная (коррекционная) общеобразовательная школа-интернат №19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вид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. Изобильный  Ставрополь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одзаголовок 4"/>
          <p:cNvSpPr/>
          <p:nvPr/>
        </p:nvSpPr>
        <p:spPr>
          <a:xfrm>
            <a:off x="1357200" y="5072040"/>
            <a:ext cx="6400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ла учитель би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уликова Оксана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258920" y="2133720"/>
            <a:ext cx="2521080" cy="792000"/>
          </a:xfrm>
          <a:prstGeom prst="flowChartPunchedTap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асные паслён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0240" y="4941360"/>
            <a:ext cx="731376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20 001"/>
          <p:cNvPicPr/>
          <p:nvPr/>
        </p:nvPicPr>
        <p:blipFill>
          <a:blip r:embed="rId1"/>
          <a:stretch/>
        </p:blipFill>
        <p:spPr>
          <a:xfrm>
            <a:off x="611280" y="306864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2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3097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580000" y="1628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08720" y="1484280"/>
            <a:ext cx="2158920" cy="936720"/>
          </a:xfrm>
          <a:prstGeom prst="flowChartPunchedTap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Р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коративные паслён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Копия 1 003"/>
          <p:cNvPicPr/>
          <p:nvPr/>
        </p:nvPicPr>
        <p:blipFill>
          <a:blip r:embed="rId1"/>
          <a:stretch/>
        </p:blipFill>
        <p:spPr>
          <a:xfrm>
            <a:off x="826920" y="1844640"/>
            <a:ext cx="3240360" cy="410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21"/>
          <p:cNvPicPr/>
          <p:nvPr/>
        </p:nvPicPr>
        <p:blipFill>
          <a:blip r:embed="rId2"/>
          <a:stretch/>
        </p:blipFill>
        <p:spPr>
          <a:xfrm>
            <a:off x="5292720" y="2133720"/>
            <a:ext cx="3313080" cy="388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116000" y="60930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АЛ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58520" y="6093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ту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. Тип корнев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теб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Жилкование лист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Строение цве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П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емейство Боб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8" descr="0_33b1_cdd8af4f_XL"/>
          <p:cNvPicPr/>
          <p:nvPr/>
        </p:nvPicPr>
        <p:blipFill>
          <a:blip r:embed="rId1"/>
          <a:stretch/>
        </p:blipFill>
        <p:spPr>
          <a:xfrm>
            <a:off x="1619280" y="1773360"/>
            <a:ext cx="6018120" cy="4295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5892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Класс Двудо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едставители семейств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9" descr="0_80a_cfd34ce9_XL"/>
          <p:cNvPicPr/>
          <p:nvPr/>
        </p:nvPicPr>
        <p:blipFill>
          <a:blip r:embed="rId1"/>
          <a:stretch/>
        </p:blipFill>
        <p:spPr>
          <a:xfrm>
            <a:off x="971640" y="1844640"/>
            <a:ext cx="3430440" cy="424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eas_17"/>
          <p:cNvPicPr/>
          <p:nvPr/>
        </p:nvPicPr>
        <p:blipFill>
          <a:blip r:embed="rId2"/>
          <a:stretch/>
        </p:blipFill>
        <p:spPr>
          <a:xfrm>
            <a:off x="4859280" y="1905120"/>
            <a:ext cx="3960720" cy="4190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1116000" y="6093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Б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003640" y="6093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Горо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едставители семейств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7" descr="0_635b_3937ff87_XL"/>
          <p:cNvPicPr/>
          <p:nvPr/>
        </p:nvPicPr>
        <p:blipFill>
          <a:blip r:embed="rId1"/>
          <a:stretch/>
        </p:blipFill>
        <p:spPr>
          <a:xfrm>
            <a:off x="5292720" y="184464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phaseolus_vulgaris1"/>
          <p:cNvPicPr/>
          <p:nvPr/>
        </p:nvPicPr>
        <p:blipFill>
          <a:blip r:embed="rId2"/>
          <a:stretch/>
        </p:blipFill>
        <p:spPr>
          <a:xfrm>
            <a:off x="971640" y="1844640"/>
            <a:ext cx="3090600" cy="4121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1116000" y="6093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Фас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508720" y="6093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Со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едставители семейств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6" descr="0_12a77_98c132d5_XL"/>
          <p:cNvPicPr/>
          <p:nvPr/>
        </p:nvPicPr>
        <p:blipFill>
          <a:blip r:embed="rId1"/>
          <a:stretch/>
        </p:blipFill>
        <p:spPr>
          <a:xfrm>
            <a:off x="1714680" y="1905120"/>
            <a:ext cx="6254640" cy="4190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124000" y="6165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Желтая а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едставители семейств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5" descr="image_85"/>
          <p:cNvPicPr/>
          <p:nvPr/>
        </p:nvPicPr>
        <p:blipFill>
          <a:blip r:embed="rId1"/>
          <a:stretch/>
        </p:blipFill>
        <p:spPr>
          <a:xfrm>
            <a:off x="1258920" y="1844640"/>
            <a:ext cx="6735600" cy="4087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2268360" y="609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Белая а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троение цве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5" descr="fabaceae_flor_scheme2"/>
          <p:cNvPicPr/>
          <p:nvPr/>
        </p:nvPicPr>
        <p:blipFill>
          <a:blip r:embed="rId1"/>
          <a:stretch/>
        </p:blipFill>
        <p:spPr>
          <a:xfrm>
            <a:off x="826920" y="1844640"/>
            <a:ext cx="3810240" cy="302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gorokh"/>
          <p:cNvPicPr/>
          <p:nvPr/>
        </p:nvPicPr>
        <p:blipFill>
          <a:blip r:embed="rId2"/>
          <a:stretch/>
        </p:blipFill>
        <p:spPr>
          <a:xfrm>
            <a:off x="5003640" y="184464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900000" y="5445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Ц 5Ч 5Л 10Т 1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Корневая сист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Picture 6" descr="1-16"/>
          <p:cNvPicPr/>
          <p:nvPr/>
        </p:nvPicPr>
        <p:blipFill>
          <a:blip r:embed="rId1"/>
          <a:stretch/>
        </p:blipFill>
        <p:spPr>
          <a:xfrm>
            <a:off x="468360" y="1916280"/>
            <a:ext cx="4441680" cy="2935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Корневая система – стержне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На корнях имеются клубеньки, в которых поселяются клубеньковые бакте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 flipV="1">
            <a:off x="2771640" y="4723920"/>
            <a:ext cx="648000" cy="1009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348000" y="566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убе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997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, 2, 3, м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00748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ыбери правильны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Л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Picture 6" descr="medherb004"/>
          <p:cNvPicPr/>
          <p:nvPr/>
        </p:nvPicPr>
        <p:blipFill>
          <a:blip r:embed="rId1"/>
          <a:stretch/>
        </p:blipFill>
        <p:spPr>
          <a:xfrm>
            <a:off x="1116000" y="907920"/>
            <a:ext cx="2760840" cy="4249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16360" y="1125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стья слож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кование – сетчат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екоторых растений лист заканчивается ус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peas1"/>
          <p:cNvPicPr/>
          <p:nvPr/>
        </p:nvPicPr>
        <p:blipFill>
          <a:blip r:embed="rId2"/>
          <a:stretch/>
        </p:blipFill>
        <p:spPr>
          <a:xfrm>
            <a:off x="4500720" y="4724280"/>
            <a:ext cx="3152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л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392724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Плод – бо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phaseolus_vulgaris"/>
          <p:cNvPicPr/>
          <p:nvPr/>
        </p:nvPicPr>
        <p:blipFill>
          <a:blip r:embed="rId1"/>
          <a:stretch/>
        </p:blipFill>
        <p:spPr>
          <a:xfrm>
            <a:off x="826920" y="1125360"/>
            <a:ext cx="3051360" cy="439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dbimage"/>
          <p:cNvPicPr/>
          <p:nvPr/>
        </p:nvPicPr>
        <p:blipFill>
          <a:blip r:embed="rId2"/>
          <a:stretch/>
        </p:blipFill>
        <p:spPr>
          <a:xfrm>
            <a:off x="4140360" y="357336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начение бобовых расте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8" descr="aa45eca1ae0e"/>
          <p:cNvPicPr/>
          <p:nvPr/>
        </p:nvPicPr>
        <p:blipFill>
          <a:blip r:embed="rId1"/>
          <a:stretch/>
        </p:blipFill>
        <p:spPr>
          <a:xfrm>
            <a:off x="1116000" y="1790640"/>
            <a:ext cx="31989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9bdcece45cad"/>
          <p:cNvPicPr/>
          <p:nvPr/>
        </p:nvPicPr>
        <p:blipFill>
          <a:blip r:embed="rId2"/>
          <a:stretch/>
        </p:blipFill>
        <p:spPr>
          <a:xfrm>
            <a:off x="5364000" y="1776240"/>
            <a:ext cx="286416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4711"/>
          <p:cNvPicPr/>
          <p:nvPr/>
        </p:nvPicPr>
        <p:blipFill>
          <a:blip r:embed="rId3"/>
          <a:stretch/>
        </p:blipFill>
        <p:spPr>
          <a:xfrm>
            <a:off x="1116000" y="414972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190627__11_17_08_22_19_03"/>
          <p:cNvPicPr/>
          <p:nvPr/>
        </p:nvPicPr>
        <p:blipFill>
          <a:blip r:embed="rId4"/>
          <a:stretch/>
        </p:blipFill>
        <p:spPr>
          <a:xfrm>
            <a:off x="5796000" y="4076640"/>
            <a:ext cx="187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оевые проду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Picture 8" descr="soja1"/>
          <p:cNvPicPr/>
          <p:nvPr/>
        </p:nvPicPr>
        <p:blipFill>
          <a:blip r:embed="rId1"/>
          <a:stretch/>
        </p:blipFill>
        <p:spPr>
          <a:xfrm>
            <a:off x="385920" y="1125360"/>
            <a:ext cx="4032000" cy="5253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oja3"/>
          <p:cNvPicPr/>
          <p:nvPr/>
        </p:nvPicPr>
        <p:blipFill>
          <a:blip r:embed="rId2"/>
          <a:stretch/>
        </p:blipFill>
        <p:spPr>
          <a:xfrm>
            <a:off x="5076720" y="1125360"/>
            <a:ext cx="3870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оевые проду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0" name="Picture 6" descr="00059946_b"/>
          <p:cNvPicPr/>
          <p:nvPr/>
        </p:nvPicPr>
        <p:blipFill>
          <a:blip r:embed="rId1"/>
          <a:stretch/>
        </p:blipFill>
        <p:spPr>
          <a:xfrm>
            <a:off x="611280" y="1809720"/>
            <a:ext cx="4154400" cy="415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a6773a30090"/>
          <p:cNvPicPr/>
          <p:nvPr/>
        </p:nvPicPr>
        <p:blipFill>
          <a:blip r:embed="rId2"/>
          <a:stretch/>
        </p:blipFill>
        <p:spPr>
          <a:xfrm>
            <a:off x="5332320" y="1844640"/>
            <a:ext cx="3056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тержневая, придаточная, мочковат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00748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ыбери правильны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8880" y="2997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тчатое, круговое, параллельное, дугово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36160" y="981000"/>
            <a:ext cx="8007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ыбери правильны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314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авы, деревья, кустарники, цвет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8007480" cy="11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ыбери правильны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red_pepper_300"/>
          <p:cNvPicPr/>
          <p:nvPr/>
        </p:nvPicPr>
        <p:blipFill>
          <a:blip r:embed="rId1"/>
          <a:stretch/>
        </p:blipFill>
        <p:spPr>
          <a:xfrm>
            <a:off x="684360" y="2349360"/>
            <a:ext cx="3671640" cy="4064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724360" y="189000"/>
            <a:ext cx="2880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от 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иковин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етке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ковин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исит, краснеется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е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Pj04005970000[1]"/>
          <p:cNvPicPr/>
          <p:nvPr/>
        </p:nvPicPr>
        <p:blipFill>
          <a:blip r:embed="rId1"/>
          <a:stretch/>
        </p:blipFill>
        <p:spPr>
          <a:xfrm>
            <a:off x="3319560" y="1916280"/>
            <a:ext cx="5068800" cy="45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79480" y="712800"/>
            <a:ext cx="189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4360" y="249228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года крас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года вку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жь да со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шь да хвал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MCj03585970000[1]"/>
          <p:cNvPicPr/>
          <p:nvPr/>
        </p:nvPicPr>
        <p:blipFill>
          <a:blip r:embed="rId1"/>
          <a:stretch/>
        </p:blipFill>
        <p:spPr>
          <a:xfrm>
            <a:off x="2268360" y="3716280"/>
            <a:ext cx="4608720" cy="2836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971640" y="189000"/>
            <a:ext cx="4248000" cy="3311280"/>
          </a:xfrm>
          <a:prstGeom prst="wedgeRoundRectCallout">
            <a:avLst>
              <a:gd name="adj1" fmla="val -17189"/>
              <a:gd name="adj2" fmla="val 69990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87280" y="620640"/>
            <a:ext cx="290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мидору – бр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кумачу не ра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в лиловой рос одёж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краснеет даже в лёж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692360" y="0"/>
            <a:ext cx="4751280" cy="162864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Цветок – напрасный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лод – опасный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 поле всё засажен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Изображение"/>
          <p:cNvPicPr/>
          <p:nvPr/>
        </p:nvPicPr>
        <p:blipFill>
          <a:blip r:embed="rId1"/>
          <a:stretch/>
        </p:blipFill>
        <p:spPr>
          <a:xfrm>
            <a:off x="684360" y="2492280"/>
            <a:ext cx="3313080" cy="403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Изображение1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7:03:27Z</dcterms:created>
  <dc:creator>Zver</dc:creator>
  <dc:description/>
  <dc:language>en-US</dc:language>
  <cp:lastModifiedBy>USER</cp:lastModifiedBy>
  <dcterms:modified xsi:type="dcterms:W3CDTF">2015-06-21T09:32:14Z</dcterms:modified>
  <cp:revision>4</cp:revision>
  <dc:subject/>
  <dc:title>Семейство Бобовые</dc:title>
</cp:coreProperties>
</file>