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4.wmf" ContentType="image/x-wmf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F044-12EB-4749-AFC7-7F579BFAA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1C09-79A5-4228-A80F-DBBE7147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1713-E539-44AD-9C35-CCE273E91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5CB4-099C-4CF2-8B09-0E64BF78A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87A1-D14E-4648-B952-190078821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12EB-3294-46B5-B323-C9E0D18A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C9E5-0315-42E6-80F7-78B60684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A384-A549-440F-AC24-B85F2F50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44B2-0A0B-4121-9716-6D93B6CB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2B04-94EF-413E-9C53-6F0677C9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1E66-EFC4-472E-8DE9-3D05A0DC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65AB-A415-460A-9562-BE578095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7363-5A1A-45AF-BAC8-1D129F65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E638-E85D-4083-86EC-AB18D4F7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D533-F569-4059-AD67-7EFA9EF5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5899-17D0-40C1-860A-806D4E36E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8872-B971-4FA7-AD4A-6D36BA13F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907C-C532-4B88-83E6-92B8247C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4388-3C53-44DA-A115-0D265AF0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17B6-C6AA-411F-BBE9-3DBE9854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A8AB-7EAA-4078-84BF-19BA23D9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F7FD-B250-41C2-9261-E3E98003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F4E2-F6C8-4113-A7E7-888C2371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FB0B-0A7A-41A3-938F-F14D6CCC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4329-96BF-416B-8812-C9E9C2FEEC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27D3-16B3-4588-9305-122E4DDB28B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alugin.org/ru/images/pejzaz/zima.htm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408456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500" spc="-1" strike="noStrike">
                <a:solidFill>
                  <a:srgbClr val="ff3300"/>
                </a:solidFill>
                <a:latin typeface="Georgia"/>
              </a:rPr>
              <a:t>       </a:t>
            </a:r>
            <a:r>
              <a:rPr b="1" i="1" lang="ru-RU" sz="4000" spc="-1" strike="noStrike" u="sng">
                <a:solidFill>
                  <a:srgbClr val="ff3300"/>
                </a:solidFill>
                <a:uFillTx/>
                <a:latin typeface="Georgia"/>
              </a:rPr>
              <a:t>Класс 6 </a:t>
            </a:r>
            <a:br>
              <a:rPr sz="4000"/>
            </a:br>
            <a:r>
              <a:rPr b="1" i="1" lang="ru-RU" sz="4000" spc="-1" strike="noStrike" u="sng">
                <a:solidFill>
                  <a:srgbClr val="ff3300"/>
                </a:solidFill>
                <a:uFillTx/>
                <a:latin typeface="Georgia"/>
              </a:rPr>
              <a:t>Урок чтения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843280" y="2492280"/>
            <a:ext cx="36720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00cc"/>
                </a:solidFill>
                <a:latin typeface="Georgia"/>
              </a:rPr>
              <a:t> </a:t>
            </a:r>
            <a:r>
              <a:rPr b="1" lang="ru-RU" sz="4300" spc="-1" strike="noStrike" u="sng">
                <a:solidFill>
                  <a:srgbClr val="cc00cc"/>
                </a:solidFill>
                <a:uFillTx/>
                <a:latin typeface="Georgia"/>
              </a:rPr>
              <a:t>Ю.Рытхэу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 u="sng">
                <a:solidFill>
                  <a:srgbClr val="cc00cc"/>
                </a:solidFill>
                <a:uFillTx/>
                <a:latin typeface="Georgia"/>
              </a:rPr>
              <a:t>  </a:t>
            </a:r>
            <a:r>
              <a:rPr b="1" lang="ru-RU" sz="4300" spc="-1" strike="noStrike" u="sng">
                <a:solidFill>
                  <a:srgbClr val="cc00cc"/>
                </a:solidFill>
                <a:uFillTx/>
                <a:latin typeface="Georgia"/>
              </a:rPr>
              <a:t>«Пурга»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19f8a"/>
                </a:solidFill>
                <a:uFillTx/>
                <a:latin typeface="Arial Black"/>
              </a:rPr>
              <a:t>ФИЗМИНУТ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www_creep_ru_1210"/>
          <p:cNvPicPr/>
          <p:nvPr/>
        </p:nvPicPr>
        <p:blipFill>
          <a:blip r:embed="rId1"/>
          <a:stretch/>
        </p:blipFill>
        <p:spPr>
          <a:xfrm>
            <a:off x="468360" y="1628640"/>
            <a:ext cx="8388360" cy="4881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280" y="244440"/>
            <a:ext cx="86630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Используемая литерату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www.kalugin.org/ru/images/pejzaz/zima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7"/>
                </a:solidFill>
                <a:latin typeface="Arial"/>
              </a:rPr>
              <a:t>http://www.planetamap.ru/map_8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7"/>
                </a:solidFill>
                <a:latin typeface="Arial"/>
              </a:rPr>
              <a:t>И.М.Бгажнокова  Книга  для  чт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7"/>
                </a:solidFill>
                <a:latin typeface="Arial"/>
              </a:rPr>
              <a:t>Энциклопедический  словар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7"/>
                </a:solidFill>
                <a:latin typeface="Arial"/>
              </a:rPr>
              <a:t>Словарь  русского  языка  В. Да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"/>
              </a:rPr>
              <a:t>Спасибо за сотрудничество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28240" y="2265120"/>
            <a:ext cx="748836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ff"/>
                </a:solidFill>
                <a:latin typeface="Arial"/>
              </a:rPr>
              <a:t>Презентацию подготовила и выполнила </a:t>
            </a:r>
            <a:r>
              <a:rPr b="0" lang="ru-RU" sz="4400" spc="-1" strike="noStrike">
                <a:solidFill>
                  <a:srgbClr val="e14343"/>
                </a:solidFill>
                <a:latin typeface="Arial"/>
              </a:rPr>
              <a:t>Саплина И.И</a:t>
            </a:r>
            <a:r>
              <a:rPr b="1" i="1" lang="ru-RU" sz="2500" spc="-1" strike="noStrike">
                <a:solidFill>
                  <a:srgbClr val="ffffff"/>
                </a:solidFill>
                <a:latin typeface="Arial"/>
              </a:rPr>
              <a:t>., учитель русского языка и чтения ГКС(К)ОУ  «Специальная (коррекционная) общеобразовательная школа-интернат №19 </a:t>
            </a:r>
            <a:r>
              <a:rPr b="1" i="1" lang="en-US" sz="2500" spc="-1" strike="noStrike">
                <a:solidFill>
                  <a:srgbClr val="ffffff"/>
                </a:solidFill>
                <a:latin typeface="Arial"/>
              </a:rPr>
              <a:t>VIII </a:t>
            </a:r>
            <a:r>
              <a:rPr b="1" i="1" lang="ru-RU" sz="2500" spc="-1" strike="noStrike">
                <a:solidFill>
                  <a:srgbClr val="ffffff"/>
                </a:solidFill>
                <a:latin typeface="Arial"/>
              </a:rPr>
              <a:t> вида »  город    Изобильный, Ставропольского края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Georgia"/>
              </a:rPr>
              <a:t>Какое время года изображено?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Picture 4" descr="5p"/>
          <p:cNvPicPr/>
          <p:nvPr/>
        </p:nvPicPr>
        <p:blipFill>
          <a:blip r:embed="rId1"/>
          <a:stretch/>
        </p:blipFill>
        <p:spPr>
          <a:xfrm>
            <a:off x="4067280" y="1773360"/>
            <a:ext cx="4321080" cy="3117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4982423544185e577be2aa7e27f24fcf"/>
          <p:cNvPicPr/>
          <p:nvPr/>
        </p:nvPicPr>
        <p:blipFill>
          <a:blip r:embed="rId2"/>
          <a:stretch/>
        </p:blipFill>
        <p:spPr>
          <a:xfrm>
            <a:off x="395280" y="3213000"/>
            <a:ext cx="4186080" cy="2867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ГАД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Мухи белые летел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На дворы, на крыши сел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Не сочтете белых мух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Что летают, словно пу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(СНЕЖИНК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Скатерть бе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Все поле оде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(СНЕГ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j0301252"/>
          <p:cNvPicPr/>
          <p:nvPr/>
        </p:nvPicPr>
        <p:blipFill>
          <a:blip r:embed="rId1"/>
          <a:stretch/>
        </p:blipFill>
        <p:spPr>
          <a:xfrm>
            <a:off x="2484360" y="3860640"/>
            <a:ext cx="3240000" cy="2770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j0217698"/>
          <p:cNvPicPr/>
          <p:nvPr/>
        </p:nvPicPr>
        <p:blipFill>
          <a:blip r:embed="rId2"/>
          <a:stretch/>
        </p:blipFill>
        <p:spPr>
          <a:xfrm>
            <a:off x="5508720" y="620640"/>
            <a:ext cx="2611440" cy="2530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324000" y="1484280"/>
            <a:ext cx="5543280" cy="43927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8" descr="gal_07"/>
          <p:cNvPicPr/>
          <p:nvPr/>
        </p:nvPicPr>
        <p:blipFill>
          <a:blip r:embed="rId1"/>
          <a:stretch/>
        </p:blipFill>
        <p:spPr>
          <a:xfrm>
            <a:off x="6012000" y="4292640"/>
            <a:ext cx="2809800" cy="1760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picture"/>
          <p:cNvPicPr/>
          <p:nvPr/>
        </p:nvPicPr>
        <p:blipFill>
          <a:blip r:embed="rId2"/>
          <a:stretch/>
        </p:blipFill>
        <p:spPr>
          <a:xfrm>
            <a:off x="539640" y="189000"/>
            <a:ext cx="2016360" cy="1224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tundra"/>
          <p:cNvPicPr/>
          <p:nvPr/>
        </p:nvPicPr>
        <p:blipFill>
          <a:blip r:embed="rId3"/>
          <a:stretch/>
        </p:blipFill>
        <p:spPr>
          <a:xfrm>
            <a:off x="6443640" y="404640"/>
            <a:ext cx="2003400" cy="122400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2"/>
          <p:cNvSpPr/>
          <p:nvPr/>
        </p:nvSpPr>
        <p:spPr>
          <a:xfrm>
            <a:off x="4859280" y="2205000"/>
            <a:ext cx="3816360" cy="2089080"/>
          </a:xfrm>
          <a:prstGeom prst="irregularSeal1">
            <a:avLst/>
          </a:prstGeom>
          <a:gradFill rotWithShape="0">
            <a:gsLst>
              <a:gs pos="0">
                <a:srgbClr val="fbe4ae"/>
              </a:gs>
              <a:gs pos="100000">
                <a:srgbClr val="fae3b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Georgia"/>
              </a:rPr>
              <a:t>Чукотский полуостр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4" descr="Рисунок1"/>
          <p:cNvPicPr/>
          <p:nvPr/>
        </p:nvPicPr>
        <p:blipFill>
          <a:blip r:embed="rId4"/>
          <a:stretch/>
        </p:blipFill>
        <p:spPr>
          <a:xfrm>
            <a:off x="971640" y="2492280"/>
            <a:ext cx="4248000" cy="2560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7"/>
          <p:cNvSpPr/>
          <p:nvPr/>
        </p:nvSpPr>
        <p:spPr>
          <a:xfrm>
            <a:off x="0" y="333360"/>
            <a:ext cx="9144000" cy="136692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170640 h 1366920"/>
              <a:gd name="textAreaBottom" fmla="*/ 1367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рганический мир тунд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3835440" cy="2946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tundra"/>
          <p:cNvPicPr/>
          <p:nvPr/>
        </p:nvPicPr>
        <p:blipFill>
          <a:blip r:embed="rId2"/>
          <a:stretch/>
        </p:blipFill>
        <p:spPr>
          <a:xfrm>
            <a:off x="5292720" y="4005360"/>
            <a:ext cx="367200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2"/>
          <p:cNvSpPr/>
          <p:nvPr/>
        </p:nvSpPr>
        <p:spPr>
          <a:xfrm>
            <a:off x="395280" y="765000"/>
            <a:ext cx="3816360" cy="2376720"/>
          </a:xfrm>
          <a:prstGeom prst="cloudCallout">
            <a:avLst>
              <a:gd name="adj1" fmla="val -27495"/>
              <a:gd name="adj2" fmla="val 77990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3" descr="gaz47nn"/>
          <p:cNvPicPr/>
          <p:nvPr/>
        </p:nvPicPr>
        <p:blipFill>
          <a:blip r:embed="rId1"/>
          <a:stretch/>
        </p:blipFill>
        <p:spPr>
          <a:xfrm>
            <a:off x="971640" y="1268280"/>
            <a:ext cx="2592360" cy="1279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324000" y="393372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Georgia"/>
              </a:rPr>
              <a:t>ВЕЗДЕХ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4284720" y="1052640"/>
            <a:ext cx="4535280" cy="2520720"/>
          </a:xfrm>
          <a:prstGeom prst="cloudCallout">
            <a:avLst>
              <a:gd name="adj1" fmla="val 7472"/>
              <a:gd name="adj2" fmla="val 76134"/>
            </a:avLst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6" descr="1"/>
          <p:cNvPicPr/>
          <p:nvPr/>
        </p:nvPicPr>
        <p:blipFill>
          <a:blip r:embed="rId2"/>
          <a:stretch/>
        </p:blipFill>
        <p:spPr>
          <a:xfrm>
            <a:off x="5364000" y="1700280"/>
            <a:ext cx="2318040" cy="12999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6084720" y="43657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Georgia"/>
              </a:rPr>
              <a:t>ТОРО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1547640" y="4292640"/>
            <a:ext cx="4537080" cy="2016000"/>
          </a:xfrm>
          <a:prstGeom prst="cloudCallout">
            <a:avLst>
              <a:gd name="adj1" fmla="val 57870"/>
              <a:gd name="adj2" fmla="val 34013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9" descr="0_1"/>
          <p:cNvPicPr/>
          <p:nvPr/>
        </p:nvPicPr>
        <p:blipFill>
          <a:blip r:embed="rId3"/>
          <a:stretch/>
        </p:blipFill>
        <p:spPr>
          <a:xfrm>
            <a:off x="2484360" y="4581360"/>
            <a:ext cx="2735280" cy="13669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0"/>
          <p:cNvSpPr/>
          <p:nvPr/>
        </p:nvSpPr>
        <p:spPr>
          <a:xfrm>
            <a:off x="6588000" y="57340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Georgia"/>
              </a:rPr>
              <a:t>ЦИКЛ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gal_07"/>
          <p:cNvPicPr/>
          <p:nvPr/>
        </p:nvPicPr>
        <p:blipFill>
          <a:blip r:embed="rId1"/>
          <a:stretch/>
        </p:blipFill>
        <p:spPr>
          <a:xfrm>
            <a:off x="1835280" y="2565360"/>
            <a:ext cx="6192720" cy="324000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3"/>
          <p:cNvSpPr/>
          <p:nvPr/>
        </p:nvSpPr>
        <p:spPr>
          <a:xfrm>
            <a:off x="539640" y="189000"/>
            <a:ext cx="4032360" cy="2303280"/>
          </a:xfrm>
          <a:prstGeom prst="cloudCallout">
            <a:avLst>
              <a:gd name="adj1" fmla="val 105314"/>
              <a:gd name="adj2" fmla="val 45245"/>
            </a:avLst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33"/>
                </a:solidFill>
                <a:latin typeface="Georgia"/>
              </a:rPr>
              <a:t>В Е Л Ь Б О 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395280" y="1700280"/>
            <a:ext cx="3672000" cy="2736720"/>
          </a:xfrm>
          <a:prstGeom prst="cloudCallout">
            <a:avLst>
              <a:gd name="adj1" fmla="val 61458"/>
              <a:gd name="adj2" fmla="val 88805"/>
            </a:avLst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3" descr="big2924"/>
          <p:cNvPicPr/>
          <p:nvPr/>
        </p:nvPicPr>
        <p:blipFill>
          <a:blip r:embed="rId1"/>
          <a:stretch/>
        </p:blipFill>
        <p:spPr>
          <a:xfrm>
            <a:off x="971640" y="2220840"/>
            <a:ext cx="2305080" cy="17128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2411280" y="566100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Georgia"/>
              </a:rPr>
              <a:t>МАЛАХА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4932360" y="1773360"/>
            <a:ext cx="3816360" cy="2447640"/>
          </a:xfrm>
          <a:prstGeom prst="cloudCallout">
            <a:avLst>
              <a:gd name="adj1" fmla="val -29199"/>
              <a:gd name="adj2" fmla="val 110245"/>
            </a:avLst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6156360" y="5661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Georgia"/>
              </a:rPr>
              <a:t>ЯРАН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7" descr="picture"/>
          <p:cNvPicPr/>
          <p:nvPr/>
        </p:nvPicPr>
        <p:blipFill>
          <a:blip r:embed="rId2"/>
          <a:stretch/>
        </p:blipFill>
        <p:spPr>
          <a:xfrm>
            <a:off x="5724360" y="2205000"/>
            <a:ext cx="2340000" cy="1440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71640" y="1916280"/>
            <a:ext cx="769608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Яранг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жилое помещение, отапливаемое и освещаемое жировой лампой; вне полога — кладовая.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Яранг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храняется в быту оленеводческих брига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Малаха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большая шапка на меху с наушник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Цикло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ихревой пот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Вельбо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большая лод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Торо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ледяные г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0" y="189000"/>
            <a:ext cx="9144000" cy="115236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33480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1569" stAng="16200000" swAng="5400000"/>
                <a:lnTo>
                  <a:pt x="8100" y="6277"/>
                </a:lnTo>
                <a:lnTo>
                  <a:pt x="13500" y="6277"/>
                </a:lnTo>
                <a:lnTo>
                  <a:pt x="13500" y="1569"/>
                </a:lnTo>
                <a:arcTo wR="675" hR="1569" stAng="10800000" swAng="5400000"/>
                <a:lnTo>
                  <a:pt x="21600" y="0"/>
                </a:lnTo>
                <a:lnTo>
                  <a:pt x="18900" y="7662"/>
                </a:lnTo>
                <a:lnTo>
                  <a:pt x="21600" y="15323"/>
                </a:lnTo>
                <a:lnTo>
                  <a:pt x="16200" y="15323"/>
                </a:lnTo>
                <a:lnTo>
                  <a:pt x="16200" y="20031"/>
                </a:lnTo>
                <a:arcTo wR="675" hR="1569" stAng="0" swAng="5400000"/>
                <a:lnTo>
                  <a:pt x="6075" y="21600"/>
                </a:lnTo>
                <a:arcTo wR="675" hR="1569" stAng="5400000" swAng="5400000"/>
                <a:lnTo>
                  <a:pt x="5400" y="15323"/>
                </a:lnTo>
                <a:lnTo>
                  <a:pt x="0" y="15323"/>
                </a:lnTo>
                <a:lnTo>
                  <a:pt x="2700" y="7662"/>
                </a:lnTo>
                <a:close/>
              </a:path>
              <a:path fill="none" w="21600" h="21600">
                <a:moveTo>
                  <a:pt x="8100" y="1569"/>
                </a:moveTo>
                <a:arcTo wR="675" hR="1569" stAng="0" swAng="5400000"/>
                <a:lnTo>
                  <a:pt x="6075" y="3139"/>
                </a:lnTo>
                <a:arcTo wR="675" hR="1569" stAng="16200000" swAng="-5400000"/>
                <a:arcTo wR="675" hR="1569" stAng="10800000" swAng="-5400000"/>
                <a:lnTo>
                  <a:pt x="8100" y="6277"/>
                </a:lnTo>
              </a:path>
              <a:path fill="none" w="21600" h="21600">
                <a:moveTo>
                  <a:pt x="13500" y="1569"/>
                </a:moveTo>
                <a:arcTo wR="675" hR="1569" stAng="10800000" swAng="-5400000"/>
                <a:lnTo>
                  <a:pt x="15525" y="3139"/>
                </a:lnTo>
                <a:arcTo wR="675" hR="1569" stAng="16200000" swAng="5400000"/>
                <a:arcTo wR="675" hR="1569" stAng="0" swAng="5400000"/>
                <a:lnTo>
                  <a:pt x="13500" y="6277"/>
                </a:lnTo>
              </a:path>
              <a:path fill="none" w="21600" h="21600">
                <a:moveTo>
                  <a:pt x="5400" y="4708"/>
                </a:moveTo>
                <a:lnTo>
                  <a:pt x="5400" y="15323"/>
                </a:lnTo>
              </a:path>
              <a:path fill="none" w="21600" h="21600">
                <a:moveTo>
                  <a:pt x="16200" y="4708"/>
                </a:moveTo>
                <a:lnTo>
                  <a:pt x="16200" y="15323"/>
                </a:lnTo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Georgia"/>
              </a:rPr>
              <a:t>Словарная раб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11:21:23Z</dcterms:created>
  <dc:creator>m15-r05</dc:creator>
  <dc:description/>
  <dc:language>en-US</dc:language>
  <cp:lastModifiedBy>USER</cp:lastModifiedBy>
  <dcterms:modified xsi:type="dcterms:W3CDTF">2015-06-21T11:57:31Z</dcterms:modified>
  <cp:revision>17</cp:revision>
  <dc:subject/>
  <dc:title>Класс 6 класс Урок чтения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