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E68-BAA2-47D1-A7E4-C8E3BB8E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ADD-8F97-4C23-9CF1-64E8613B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9C9-9191-4671-AD9F-C274E4A9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1E0-FBC7-4885-BDDB-3F4880C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8C0-CB5A-40A2-AEF3-4056D153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EA87-5EE0-4CC5-9C5C-0855535B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CAF-414F-4F26-A668-3764AAC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328-9970-463C-944C-9D33C7EA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AB7-A0C2-4A61-9D5D-EF2F45A1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D70-B9D8-4403-9102-C2D6F3A7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4B5-3206-4EB6-B1DA-0216035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FEA-BDCC-45A2-8A9E-22D3BB0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339-9FDD-4A26-A1CC-68A314A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9EEC-FA9F-4889-ACFB-8D2B6D4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13A5-9D16-45FB-A294-B7BFBAF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DCF-2975-472A-99EB-6567F727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914-444E-43C4-AB50-7233F69E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BB2-C9F1-4491-BDCE-E2FC0C5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9E4-2FCE-46DD-8FEA-373C336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D2D-3301-4C44-A61F-45644F29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586-1394-4DF9-95E4-12C9946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7BC-3D97-4379-B633-74A47ED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E72-3BB4-4683-B4D4-8844D33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521-8C04-4337-83E1-C565509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E73-810C-4BFB-996B-7C6C5DC8CC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6E4-0988-4113-8DEB-F7B366F5F2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Пижама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Обработка боковых срезов пижамной сорочки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55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авила техники безопас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1349280" cy="179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133992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68360" y="4508640"/>
            <a:ext cx="1349640" cy="17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724360" y="4581360"/>
            <a:ext cx="2248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делка пижа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1213200" cy="179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131292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1462320" cy="218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284720" y="4365720"/>
            <a:ext cx="129528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236000" y="4221000"/>
            <a:ext cx="1439640" cy="223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564000" y="2565360"/>
            <a:ext cx="17240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рки для сороч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Сш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Сг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Оп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Д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рки для брю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т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н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ижамная соро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1792440" cy="313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95640" y="256536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лечевой срез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31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рез рукав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359400" y="393660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01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оковой срез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3284640"/>
            <a:ext cx="199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Линия середин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60930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ижний срез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27813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Срез горловин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ан пошива пижамной сороч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работать плечевые срез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работать горловин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работать боковые срез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работать срезы рукав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работать нижний срез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войной ш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55880" y="2774880"/>
            <a:ext cx="36576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актическая работа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ботка боковых срезов пижамной сороч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115092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129564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308720" y="2565360"/>
            <a:ext cx="1150920" cy="172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104472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колоть смета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4869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458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ача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465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508640"/>
            <a:ext cx="14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вернутьвыправитьвымет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строчи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45086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утюжи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культмину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8:09:26Z</dcterms:created>
  <dc:creator>Admin</dc:creator>
  <dc:description/>
  <dc:language>en-US</dc:language>
  <cp:lastModifiedBy>Admin</cp:lastModifiedBy>
  <dcterms:modified xsi:type="dcterms:W3CDTF">2013-12-04T19:52:19Z</dcterms:modified>
  <cp:revision>4</cp:revision>
  <dc:subject/>
  <dc:title>Пижама</dc:title>
</cp:coreProperties>
</file>